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D40-146C-40D4-AD23-15A6FF49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511-8892-403C-A667-8C22D24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B04-C19F-4526-936E-AD96F42F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71B-84CC-4BE7-A070-9C4434D0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55A-5A13-4CF7-A59F-517C009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076-5D40-42E6-9EAF-53DB1F1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53B-22F2-4930-8C63-657D9F5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C9-3634-4A23-8AB4-29557DF1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386-D6C6-4612-AB95-0B747F5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BE6-7925-4E10-815D-E20AFFB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003-BFDC-4224-B7D0-454D594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E5F-20F2-45B7-849A-A56E718E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AF31-DB02-4B88-B4A0-21C3D9CC63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red2_ExecCmd/FRED2_TXT2BD.vbp" TargetMode="External"/><Relationship Id="rId2" Type="http://schemas.openxmlformats.org/officeDocument/2006/relationships/hyperlink" Target="file:///FredGraph/Projet1.vbp" TargetMode="External"/><Relationship Id="rId3" Type="http://schemas.openxmlformats.org/officeDocument/2006/relationships/hyperlink" Target="file:///Word_Basic/Word_Basic_Appli.exe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deling and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l Sal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Université de Renne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ho is on the Database Mar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( 33 %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BM (DB2 and Informix 33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crosoft (around 15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others (among them MySq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Who is on Datamining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Tools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many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nies which are specialized in the treatment of data management and treatment (Treasury, Cash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ecas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ecasting is consider like a « special treatment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with which tool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ich kinds of forecast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companies practice forecasting to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companies need  economic modeling to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alue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 have told you I am not a specialist of Corporate finance, but I have a big interest for Valu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ue Creation in a f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econometric model of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ld practice (see Warren and Shelton 1970, Journal of Fin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w one (Tom Copeland « Value Creation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 model of a country and a model of a company : same th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es from the point of you the modell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 from the point of view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company collect data from real time data to ann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bmodel and the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remarks or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nies (but not only) has information system which have « automised » the process of data management and most of the basic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their forecasting process, they need to be connected on equivalent information system (Reuters or Bloomberg API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y have to use tools connected on their Information systems (Excel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y need to get or to made new forecasts very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s must be adapted quickly to new firm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tre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n an application in a Browser (Wr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are more and more available (BEA and F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are manage with a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ke a connection to a Database from your own application (Add-in in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pdate automatically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ze your own processes of work using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organize the process of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t a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’s to d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ze all the processes of modell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PM (business process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all th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onsider the problem of data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ild tools for the users (Programming very sophisticated « Macro ») with the computer level of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echnology 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e for Inforum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ess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uage for Web and cons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++ / Java / C#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ML, a universel stand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abor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Offic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ndicino (SAP / Microso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D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fore and after Interne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not only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 Oriented Progra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 of servers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b Serv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does the title mea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link between the expressions « Modeling » and « New technologies » targets only the introduction of « New technologies »  in our everyday modeling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y discussion has nothing to do  with any new theories or economic studies on the impact of « New technologies »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ircon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urses (Computing) especially in a Corporate fin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y interests for all topics connected with programming, econometrics and econom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of course mod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for the development of « New technologi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 am not a specialist of th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it gives me the possibility to discover the Information system of the company and especially the differents 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information system of companies become now the standard Information system for administration even universities (U of Maryland) per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7200" y="1066680"/>
            <a:ext cx="7632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needs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 many reasons, companies needs to manage data and to treat them ( at first accoun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se managements and treatments have become in a way easier and easier with the building of ERP (Entreprise Ressource Plan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 a problem : forecasting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P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acronym simply designs a combination of computers, servers and applications (programs) on a network based and on the use of a database system to collect and to organize all kinds of information at the finest level inside a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2010, all medium and big companies will be equiped by this type of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o is on the ERP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ly a few actors now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(Peopleso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d some others (small market sh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big ones have « bought »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26:23Z</dcterms:created>
  <dc:creator>Salmon</dc:creator>
  <dc:description/>
  <dc:language>en-US</dc:language>
  <cp:lastModifiedBy>Salmon</cp:lastModifiedBy>
  <dcterms:modified xsi:type="dcterms:W3CDTF">2006-09-14T09:19:24Z</dcterms:modified>
  <cp:revision>10</cp:revision>
  <dc:subject/>
  <dc:title>Modelling and  New technologies</dc:title>
</cp:coreProperties>
</file>